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40C-55B8-44E8-A6BA-0B982C0B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E2D-8BF9-491D-83DD-9918FE71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800-54DF-4644-8888-759E60EF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011-082E-40A1-A96E-941DF7F0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C36-06CF-4356-9B4A-0C425C1F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11AA-02A2-47F0-8B6B-6F1F142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919-A811-445E-96AC-4FE5B1D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8F7E-C6E9-4093-96AC-D0CFFCE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1F30-5013-4B9D-9276-15C2031C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760A-793C-44FD-9D80-47FC971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ED1-E810-4040-9507-B1F943FC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DCD-812B-45AC-B41F-F0D3EB2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86EC-E93B-4DE1-9D07-B735F44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CD7D-94E2-46C4-B8D1-A7492F4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9D12-A822-4878-8E57-33C6D61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FA5-18CB-4B7A-AB81-D8F4892E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E87-D9C8-4AB7-8179-0E515F36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619-621D-4FC3-8EC4-EA38196E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CC6-4159-465C-9FE2-614FA5C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233E-4B3C-4F4A-A36D-4374BD06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B55-0147-4A88-9072-948B144D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82BE-FB95-47A1-8ACC-5DB2A973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CF18-45CD-4A14-9CE0-B9DB6D9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51EB-B712-4918-8FDC-3824665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DF2B-3C9A-48D3-A57D-486C786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3999-AF4D-4D53-9C2F-67B4E223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2A47-032C-4DC3-B7B0-8E7B5F0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8F35-9DF7-4E8C-A816-40A6DEB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35D8-7A15-4E83-B84D-1CAE957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5043-2688-4104-9B0A-40A6370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2EFF-1EDE-4FAB-9324-0BBC8392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058-4629-4950-A5A2-1207AD7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428E-ED66-406E-BFB4-58BFD5E2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580-089A-48C9-81C2-DDA439D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A7D-B45F-4AFE-B113-B3F1126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CAE-2DDD-476F-8613-7D8A593D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4F354-917E-477A-983F-606417B074D8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CBF9C-09DF-46D5-A2EB-00AC261BC0E9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7E5AB-4C56-4376-BC83-9D6F378DB08A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892A0-44BE-4AAF-B3E6-0D23D24B194E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F7720-99BE-489F-9CC0-15C4F8EADDFC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0387F-D83A-4258-875D-F396410E67AA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Agreement</a:t>
            </a: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	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f03"/>
                </a:solidFill>
                <a:latin typeface="Century Gothic"/>
              </a:rPr>
              <a:t>American Li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ubjects of linking verb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linking verb must agree with its subject, regardless of the number of the predicate nominative-the noun or pronoun that renames, identifies, or explains the subjec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on craters are one sign of meteor storm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One sign of meteor storms is moon craters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llective Noun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llective noun takes a singular verb when the group it names acts as a single uni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class is excited to be learning about the solar system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llective noun takes a plural verb when the group it names act as individuals with different points of view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class are unable to decide which planets to discuss in their report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Nouns that look like plural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uns that are plural in form, but singular in meaning take singular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 of these nouns are singular names for branches of knowledge: acoustics, civics, economics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hysics is a challenging subject. (S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y lost eyeglasses were behind the sofa. (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Indefinite Pronou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indefinite pronouns take singular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veryone in the room needs to take off her coa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lural indefinite pronouns take plural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oth of these planets were formed at about the same time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r those indefinite pronouns that can be either singular or plural, agreement depends on the number of the antecedent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Indefinite pronouns con’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pronouns all, any, more, most, none, and some usually take a singular verb if the antecedent is singular and a plural verb if the antecedent is plural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of the cake is go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of the desserts are go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itl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title is singular and therefore takes a singular verb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Spac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is a novel by James A. Michen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Of Mice and Me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s a book by John Steinbeck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mounts and Measuremen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noun expressing an amount or measurement is usually singular and requires a singular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when expressing single units (ex: one sum of mone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elve dollars is the price of the ticke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ty miles was a long distance to travel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lf of the invitations were mailed today. (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ubject and Verb Agreemen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and Plural Subject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singular subject must have a singular ver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plural subject must have a plural ver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planet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travel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through spac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planet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Jupite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ha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sixteen known moon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af03"/>
                </a:solidFill>
                <a:latin typeface="Century Gothic"/>
              </a:rPr>
              <a:t>Intervening Phrases and Clauses</a:t>
            </a:r>
            <a:endParaRPr b="0" lang="en-US" sz="3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verb must agree with its subject even if a phrase or clause comes  between the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Sam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with several of his friends,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observ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sky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theor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as well as his ideas,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lack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uppor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member: Plural with plural, singular with singul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Relative pronouns as subjec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member relative pronouns?? (who, which, that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en who, which, or that acts as a subject of a subordinate clause, its verb is singular or plural, depending on the number of its antecedent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antecedent of a relative pronoun determines its agreement with a verb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X: Sam is the only one of the traine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who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has applied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mpound subject joined by and is generally plural and must have a plural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 and rain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s and rainstorms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s and rain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ception to this rule-when the parts of the compound subject equal one thing and when the word each or every is used before a compound subject.  Then use a singular ver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he exceptio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acaroni and cheese is an easy dish to mak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ach man and woman was waving a flag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o or more singular subjects joined by or or nor must have a singular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ither Jupiter or Saturn makes a fascinating topic of stud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o or more plural subjects joined by or or nor must have a plural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pace probes or space shuttles provide information about space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 </a:t>
            </a: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	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one or more singular subjects are joined to one or more plural subjects by or or nor, the subject closest to the verb determines agre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ither atmosphere nor clouds exist on Mercur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ither clouds nor atmosphere exists on Mercur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nfusing Subject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d to find subjects- When a subject comes after its verb, the verb must still agree with the subject in numb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sentence in which the subject comes after its verb is said to be inverted-you can check the subject-verb agreement by mentally putting the sentence in the normal subject-verb ord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ich of the science reports has she read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(She has read which of the science reports?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4:02:02Z</dcterms:created>
  <dc:creator>ndadmin</dc:creator>
  <dc:description/>
  <dc:language>en-US</dc:language>
  <cp:lastModifiedBy>ndadmin</cp:lastModifiedBy>
  <dcterms:modified xsi:type="dcterms:W3CDTF">2009-02-13T16:24:05Z</dcterms:modified>
  <cp:revision>6</cp:revision>
  <dc:subject/>
  <dc:title>Agreement </dc:title>
</cp:coreProperties>
</file>